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oi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66D-6BD9-452A-9DFF-C13C1B8B2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AC5-2EDF-4F64-A85B-3FF13ECAF3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C8B-8119-4CC0-95C6-437863D0C1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866-C19D-4BCA-AFF0-FA0EC46FD7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4FF5-E56E-4D54-8DFF-B4A823E1A2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449-6EE9-4B45-BF04-45E5D29972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84268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97E-4BF1-4BF5-911F-429910584F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8F3-BE1D-45F9-A607-D8E68F6A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883-4432-4EE8-83E1-231F2C09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054D1-94C0-4900-B492-30903B08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908A4-5DA4-43DE-9F74-5E518B1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D451A-9ACC-4A6D-8C2D-7DCA67D9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8DE13-33A7-4359-9320-E5DAB354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7E0DB-AA2D-4BC7-844E-8854FB2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6127F-4A8F-4BD5-98EE-54C90762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E7507-8C50-4172-8FDB-BBF4D534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0F4AC-B870-4ECB-BCE4-E359788F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13E7E-936C-4090-A3B4-8BC8FA12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5EB48-7726-4D5B-8302-4BAB6666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38F-AA56-4971-B4E2-ED0D74DB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1031F-1060-4520-B625-79FF7F09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D95BA-D3DF-4AA8-ACD8-E7E8D5AF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630DF-6D81-4A43-A8A2-9C0A634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EECBA-60AA-4028-95FA-E9ACED6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1B94A-8A4E-40CB-B941-DD907FC5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E1774-3966-47CF-A54B-ADA9F14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C4533-8FFC-485B-AE48-4CFCBE5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F75C7-6791-4DBA-BBE3-633EF35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B5560-63D8-4180-91A4-FBE397EB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E9DFC-78A5-4313-BECE-E21824E8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C59-F84F-4505-A112-4894370D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52075-50E9-4652-9FB9-C0CCA153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5E1A4-06D8-4054-B7C6-FC8D89B6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04A8-1DF5-41B4-A9C6-73BB6B48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43B0A-C40C-4D9C-B2D7-5820B3A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C4BAE-5D31-4B41-A79D-D8BF673F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9353C-2B41-42DD-8A13-A59FF68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8EEC4-FFAA-43FA-990F-EA5364FD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84F55-EFD9-4A0C-8390-39610F4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2A569-4BB6-4549-B7FF-80D87D3A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E2654-E525-41BD-9593-EA84AD6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1C7E-70C4-45B4-9C07-9A338A7A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B674F-2F2F-4E33-B7F5-47A2FDB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918A1-CBF7-45DF-9D05-3AFF305E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9A8BA-50FD-4887-BB76-4654D3E5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8055D-6184-4502-A30B-1B9E24E8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2815A-B008-4466-A0CF-03FC300E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69741-25DE-40C4-88AB-CB2C900D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93E7E-AD80-40A8-B3B1-F3768F8B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26A10-F4EC-4790-B741-E29305F9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84BCB-D27B-4BCB-963D-1142B22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9763C-4954-4E76-9F7C-7C2BF3A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A7FB-74C2-47D0-8013-06DA1555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74319-73D7-4EF2-B7C1-9935012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513A0-9E61-4FB5-97E9-34835024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AE861-415A-4280-9C8C-A36532A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8C890-EF6E-4290-A23E-95B71E92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D2C78-4244-4BBE-8BFC-485290A2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1E78-FCE5-4736-A7CF-89014D65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6C17-C6E3-4BA0-9458-2FA89A9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9EF1-3FFF-4F4C-A3CB-30D782C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3B1-6653-4670-A6E2-2832B050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44A4-5B81-4405-8FF5-F96FB70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6C1-77F7-48D7-99B3-036E0FC4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713-EE39-4CE4-BB62-C0D29C5C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FA32-0315-4321-9B25-255D183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0756-171E-407F-8C1E-18B1AA9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84C1-5C8D-4BA2-8219-D88DE9E8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B601-5A15-458B-9F9B-18CBF806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DEA5-A5BB-46BA-BCAC-7F996BB0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5CC4-BDF4-4747-9F7D-3F8611ED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6BC2-4EDE-4242-80D6-C13FC675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E900-549F-4B2C-AAAD-47D1B6C7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0635-2609-4788-884B-C24DA86A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386-643B-49C2-A536-2D9D000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E2D5-D596-4DE4-9F48-E24915C4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101C-F195-4A6C-B292-D003069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F0A1-838F-47E2-98DC-B024C54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CAB0-CE20-4C78-A73D-85D232AB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959A-54E0-4B27-BB34-43637914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421A-4C4E-4F3A-9955-21B0C052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FA0E-E804-4D60-B1BF-E4AF0CD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00E7-D4F6-492A-90AE-9DE8F289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F88E-9524-494C-B532-4EC6953D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2D19-00FB-4208-AA82-D35DDF9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299-BC54-4AD5-A99D-D62313B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54C3-E749-48ED-AB80-130DE27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596B-FFCD-4C5B-B998-AFBA753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2364-C886-4E5A-9003-70504B4E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F1D4-FE45-42AF-831D-FD13E617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77D5-7817-4093-BF5C-5E5CC92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3BA7-2138-4E02-984F-792FA9B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DA60-703F-46A4-AB5B-A1ED666D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0065-3569-472A-B1BC-608A346C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CE5E-A406-4CEB-9381-407A12F5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306BE-6DB8-447E-8E8D-7C1BE769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BCC-D43E-4D4A-9D1B-2B5CFBE3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5B0B-34B4-4A0E-8B84-6B122AF3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C082B-A6F1-4781-8F27-FD4ACD68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D3099-21EB-4A5A-BB0D-8BF56C6E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8257-0B0D-41AF-B102-3E549B09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37DDC-8387-491F-9B10-F193A2BA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AB33-09F1-4A2C-B26F-D59218D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7CB80-9CA5-4314-B9A3-3FE0739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9B77-C044-437E-A2D1-E3F9AD0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688D-FD32-4E9D-9FA7-70EC2282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B254-CCB5-42ED-B91C-D9336E84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738-D7D5-4ECC-9CDB-D7A7B96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9AFFB-9DD0-4C3F-8705-18FA2A1B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142C-9F7D-4732-8C33-09A11D7B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B020-CD59-4692-AC79-28BF18A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E588-8F71-41BB-B8EB-4688287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54A0-37A1-4122-BE68-36008FFF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65022-C8C5-40C7-B85D-3CC95752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842F-74C4-49BA-A01F-C1C20765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A7CAD-EDFF-4E18-869F-AA482D2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63A8-FDC6-4516-8E7A-97DDB12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DF1C-0B56-4F10-91A7-B2F1BB8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87D-D88E-4B17-A573-36528A7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C3E07-FFCD-4711-AD14-FAAEFEA0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D1DA-9F7C-4195-94D8-A7F42002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D785-4E7B-4ED0-80C2-731A11B8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27C3-5E11-4093-A07D-0BF9DAB8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EC81-D8B6-4374-A04E-0B0FA728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CAB3-C666-45BA-8094-2C848A9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85F82-0A2D-4680-9F67-B3D5C90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75E6-B50D-449B-9119-8B23B7AD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8058-A98B-404A-907E-8C5E3E30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8D265-5F55-49B2-9771-CA5C4D68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E84-8577-426E-9175-33BAF67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B3D0-E567-4E5F-85DE-BC9BDD23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E1EB7-DA73-4348-A000-52844AD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1B51-BEAD-4FEB-AAA9-85FE961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E3D75-F628-48F0-869E-827FBD9F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E468-9AAD-493E-84A1-373DE04F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3BCC8-C942-41F7-8344-ED9E9FDF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F9573-D07A-4BB1-9B83-72946375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6494-7869-47FB-87B1-64302B34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E699-93ED-4E2B-B0C7-89BD94F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27616-B26B-4A3E-BC5C-17D598FE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9E0-43C3-4F86-84A4-A8C9E4E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C36D-BE4E-4CF0-A4B6-2FF1157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FF85E-52F6-41E5-9EE1-5EACEC7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9658D-D7F2-4EE7-8181-93CA9F4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413B-F31F-48C8-B5E5-AE489B61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080F1-A277-4B7D-9113-9F65903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DD36-D530-49E9-9689-060EF134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DB88-A298-437E-AE08-7F9AABFF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15547-E90D-483B-B338-C11300FC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61B91-463C-4C2B-A74D-18688A6D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120AA-3851-4384-BEC5-110D44AD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15CD-1BB8-43E2-B618-7C30BD0C1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9E3F-8896-4C47-BBD7-1B81A5136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D94D-2701-4C35-A546-24209A1CF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1ACA-B07E-42E1-91CA-19DDB625E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5B7-3712-47B3-BC0C-192C244666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276B-092B-4B61-9EDB-B6A4FEEAA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8DD3-BE12-41E0-B413-FB56D78F5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7C5-8B2D-4D5E-A43E-25A6B6156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481-2F42-4413-A553-B8D78F0F50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5251-F8FB-4E3E-AAEB-AF9CEE9F4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D506-8A21-43E3-9ADD-73617C6AC0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61C1-836C-40C6-BB96-6C95D207A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6933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RONOMS DISJOI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CES PRONOMS NE SONT PAS LI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  <a:ea typeface="ＭＳ Ｐ明朝"/>
              </a:rPr>
              <a:t>ÉS À UN VERB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LS REMPLACENT DES NOMS DE PERSON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6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46b86"/>
                </a:solidFill>
                <a:latin typeface="Georgia"/>
              </a:rPr>
              <a:t>DISJOIN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PRONOMS DISJOINT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ILS REMPLACENT UNIQUEMENT DES NOMS DE PERSONNE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ILS S’UTILISENT POUR RENFORCER CE NOM OU AU LIEU D’UNE PHRASE ENTI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  <a:ea typeface="ＭＳ Ｐ明朝"/>
              </a:rPr>
              <a:t>ÈRE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EX. MOI, JE M’APPELLE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ET TOI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fr-FR" sz="10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133720" y="7621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b9899"/>
                </a:solidFill>
                <a:latin typeface="Georgia"/>
              </a:rPr>
              <a:t>Pronom Personnel</a:t>
            </a:r>
            <a:br>
              <a:rPr sz="2500"/>
            </a:br>
            <a:r>
              <a:rPr b="1" lang="en-US" sz="2500" spc="-1" strike="noStrike">
                <a:solidFill>
                  <a:srgbClr val="7b9899"/>
                </a:solidFill>
                <a:latin typeface="Georgia"/>
              </a:rPr>
              <a:t>Disjoint</a:t>
            </a:r>
            <a:br>
              <a:rPr sz="30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38080" y="14479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3560" indent="-223560" algn="ctr">
              <a:lnSpc>
                <a:spcPct val="7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Georgia"/>
                <a:ea typeface="ＭＳ Ｐ明朝"/>
              </a:rPr>
              <a:t>Ils s’utilisent souvent après les</a:t>
            </a:r>
            <a:r>
              <a:rPr b="0" lang="fr-FR" sz="5100" spc="-1" strike="noStrike">
                <a:solidFill>
                  <a:srgbClr val="000000"/>
                </a:solidFill>
                <a:latin typeface="Georgia"/>
                <a:ea typeface="ＭＳ Ｐ明朝"/>
              </a:rPr>
              <a:t>	</a:t>
            </a:r>
            <a:r>
              <a:rPr b="0" lang="fr-FR" sz="5100" spc="-1" strike="noStrike">
                <a:solidFill>
                  <a:srgbClr val="000000"/>
                </a:solidFill>
                <a:latin typeface="Georgia"/>
                <a:ea typeface="ＭＳ Ｐ明朝"/>
              </a:rPr>
              <a:t>prépositions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 Box 4"/>
          <p:cNvSpPr/>
          <p:nvPr/>
        </p:nvSpPr>
        <p:spPr>
          <a:xfrm flipV="1">
            <a:off x="1295280" y="403596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u viens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</a:rPr>
              <a:t>chez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oi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ap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ès l’éco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46b86"/>
                </a:solidFill>
                <a:latin typeface="Georgia"/>
              </a:rPr>
              <a:t>DISJOI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447920" y="2438280"/>
            <a:ext cx="655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E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276360" y="144756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46b86"/>
                </a:solidFill>
                <a:latin typeface="Georgia"/>
              </a:rPr>
              <a:t>DISJOIN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onoms Personnel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447920" y="2438280"/>
            <a:ext cx="716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 travail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our mon 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ère/ mes pare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endant l’ét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e travail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pou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lui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/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eu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ndant l’été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21:41:18Z</dcterms:created>
  <dc:creator>Mr. Smith</dc:creator>
  <dc:description/>
  <dc:language>en-US</dc:language>
  <cp:lastModifiedBy>Viviane Grebert</cp:lastModifiedBy>
  <dcterms:modified xsi:type="dcterms:W3CDTF">2011-11-21T22:02:11Z</dcterms:modified>
  <cp:revision>90</cp:revision>
  <dc:subject/>
  <dc:title>Allez, viens! – Level 2</dc:title>
</cp:coreProperties>
</file>